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743-B731-49D8-9520-3AB91009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BEE-17F0-433D-927A-5EC66C8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E56-C02E-456C-BF33-0209FB71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9F7-CB6D-42DB-A13D-52D2F128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FF52-60AB-4AD0-B099-58362679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BCF-8986-4DB7-862D-1A809DD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8EB-4730-49C5-BCDB-BBD72D6F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A55-1B8B-42D2-B467-19ECEE7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7182-1FBF-46DA-B942-021741CD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E342-F36A-481B-B7D3-7FC931C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3ED0-6F83-4A65-B060-521B0C2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50E-7536-44B1-9D20-831A596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0EB1-0397-4C4E-ADAB-1B5A25B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322-6A5B-43B6-9E42-4F7B2DA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46E9-9466-460B-8D18-987F2F73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8ECC-1522-4959-ABE9-67218B96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2E1-CAF3-463F-9DA3-932B71F3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62B-AFF8-416B-85DF-9C7A8C2F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C61-E1AD-48CA-8972-0B1BD1F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35A-D059-4AC8-903C-458CF97D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8E3-6272-44AA-9BA0-52B9A0D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F3C-8746-4529-ABB9-F347BCE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771-FA0E-406A-A38E-B89C580F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8D4-FA6A-41E5-9AC0-C694B3C2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68D-1D3F-431E-A06D-F753D646C5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DC9-9D10-40F8-9660-3D372D7390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ton.ac.uk/newtlif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768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saac Newt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ut Newt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in Lincolnshire on December 25, 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ed in Kensington, London on March 20, 17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tended Trinity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oted much of tim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che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ut Newt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d in the development of calc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ched upon the Laws of Motion &amp; the Law of Grav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619440"/>
            <a:ext cx="2638440" cy="3238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323856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34040" y="3581280"/>
            <a:ext cx="3009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62600" y="3762360"/>
            <a:ext cx="2381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 in Phys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d force needed to keep moon in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d centripetal force needed to hold stone in s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d relation between length of pendulum and time of sw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 in Phys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ton wrote the book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i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book 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the foundations of science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ed orbital motion around center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y I.D. as the primary source controlling motions of celestial bo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never f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book II) Isaac discovered how to calculate the speed of sound waves from the density of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Isaac Newton Gravity Law"/>
          <p:cNvPicPr/>
          <p:nvPr/>
        </p:nvPicPr>
        <p:blipFill>
          <a:blip r:embed="rId1"/>
          <a:stretch/>
        </p:blipFill>
        <p:spPr>
          <a:xfrm>
            <a:off x="5553000" y="0"/>
            <a:ext cx="3591000" cy="6808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 in Phys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book III) describes the laws of gravitation at work in the uni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n’t perfect the theory of moons 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ton's work has been thought of as “humanity’s greatest achievements in abstract though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newton.ac.uk/newtlif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maths.tcd.ie/pub/HistMath/People/Newton/RouseBall/RB_Newton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blupete.com/Literature/Biographies/Science/Newton.htm#Accomplish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3:02:28Z</dcterms:created>
  <dc:creator>Owner</dc:creator>
  <dc:description/>
  <dc:language>en-US</dc:language>
  <cp:lastModifiedBy>Owner</cp:lastModifiedBy>
  <dcterms:modified xsi:type="dcterms:W3CDTF">2010-02-05T05:23:47Z</dcterms:modified>
  <cp:revision>2</cp:revision>
  <dc:subject/>
  <dc:title>Isaac Newton</dc:title>
</cp:coreProperties>
</file>